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540-76FE-40AF-B03A-B46DAB9E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2D5-F32D-4249-8139-9595D2C1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D02-EE82-44C9-8615-334DC6BE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5FA-2766-4437-9E48-9ADF3AD5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BA1-8978-43D7-9D9F-306593C1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F69-F52B-4E7D-840A-2B778C23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E2F-9CB1-4AC9-A064-69B67B9C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6DD-9664-4A5C-BE48-8095A906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7D9-C10B-4F87-AC6E-5918E3B8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E8C-03E1-4452-83E7-723B5F48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154-8931-4AD7-B467-BBC021A6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CE1-E936-4B2D-8CE6-4C153F9C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C6CE-9772-4AAC-BC1C-D24492C313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4356000" y="2637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кст с поздравлением нужно разместить зде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6:06:43Z</dcterms:created>
  <dc:creator>vasiliev</dc:creator>
  <dc:description/>
  <dc:language>en-US</dc:language>
  <cp:lastModifiedBy>Слава</cp:lastModifiedBy>
  <dcterms:modified xsi:type="dcterms:W3CDTF">2019-08-25T19:54:03Z</dcterms:modified>
  <cp:revision>3</cp:revision>
  <dc:subject/>
  <dc:title>Презентация PowerPoint</dc:title>
</cp:coreProperties>
</file>